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59.jpeg" ContentType="image/jpeg"/>
  <Override PartName="/ppt/media/image3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21.wmf" ContentType="image/x-wmf"/>
  <Override PartName="/ppt/media/image60.jpeg" ContentType="image/jpeg"/>
  <Override PartName="/ppt/media/image70.wmf" ContentType="image/x-wmf"/>
  <Override PartName="/ppt/media/image28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24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1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9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BAD-643A-4807-B562-B871A8464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574-B53A-4455-A2CF-93A909F15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3DE-403E-4B4A-9BC8-95452340D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90F-150C-45B3-9041-84302997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A7F-B0B5-42F4-A389-9B07FB2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4BF-8418-406C-8A5D-D032D7A4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C54-A275-4BE7-B4D4-14A1DB78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5B01C-AEE1-48EA-A676-7CA5F7F1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DC9C1-3F67-43EC-84AF-906AF771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266CD-7402-48AD-8CBD-B2344D3D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46FCA-E712-41E7-9B38-626D2019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BB663-D3D6-46FB-A312-6E8AAAA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0CA30-5FC2-472D-82EA-173B357C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D9E3-3205-43AB-8A97-D1B99D0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797-9538-4C3A-8CF9-A589679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2E8D-234F-4623-BCA9-DC3F578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50F49-4DC5-4612-83C7-BE3200B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203D8-C976-4482-BD56-A6B13FA2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7B377-293A-4038-B432-205BEA58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E83D-D642-417D-9FEA-08B3C2DB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D33-DA2E-4D10-8349-E9014C9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035-AD4B-4D3E-B3DB-EFAB0EA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304-5F8D-453C-8C05-7E0DA059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E3E-9143-404B-BF08-7E7D4092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7B4-AE82-4493-8179-0650E42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044-000D-4518-BECB-3C672E2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2FC-F69D-47D7-827D-437FA4D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E3B-F228-4C03-841D-295A673A7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0EF8-FCE6-4F17-A713-4A135B89B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1280" y="2428920"/>
            <a:ext cx="7705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ироян Мария Альбер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кафедры прикладно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Лекция по дисциплине «Матема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правляющими углам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а        называются углы между ним и координатными ос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Косинусы направляющих углов 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равляющими косинусами вектор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 Проекции вектора         на координатные 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ординатами вектор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обозначаются, соответственно,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      верно равенств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единичные векторы, сонаправленные с соответствующей ос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Объект 3"/>
          <p:cNvGraphicFramePr/>
          <p:nvPr/>
        </p:nvGraphicFramePr>
        <p:xfrm>
          <a:off x="6588000" y="189000"/>
          <a:ext cx="25560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25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Объект 4"/>
          <p:cNvGraphicFramePr/>
          <p:nvPr/>
        </p:nvGraphicFramePr>
        <p:xfrm>
          <a:off x="1920960" y="1071720"/>
          <a:ext cx="5248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1071720"/>
                    <a:ext cx="5248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Объект 5"/>
          <p:cNvGraphicFramePr/>
          <p:nvPr/>
        </p:nvGraphicFramePr>
        <p:xfrm>
          <a:off x="738360" y="2781360"/>
          <a:ext cx="801036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2781360"/>
                    <a:ext cx="8010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7"/>
          <p:cNvGraphicFramePr/>
          <p:nvPr/>
        </p:nvGraphicFramePr>
        <p:xfrm>
          <a:off x="4067280" y="3573360"/>
          <a:ext cx="28404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3573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Объект 8"/>
          <p:cNvGraphicFramePr/>
          <p:nvPr/>
        </p:nvGraphicFramePr>
        <p:xfrm>
          <a:off x="1042920" y="4005360"/>
          <a:ext cx="153360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4005360"/>
                    <a:ext cx="15336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Объект 9"/>
          <p:cNvGraphicFramePr/>
          <p:nvPr/>
        </p:nvGraphicFramePr>
        <p:xfrm>
          <a:off x="5292720" y="4437000"/>
          <a:ext cx="1249200" cy="5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4437000"/>
                    <a:ext cx="1249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Объект 10"/>
          <p:cNvGraphicFramePr/>
          <p:nvPr/>
        </p:nvGraphicFramePr>
        <p:xfrm>
          <a:off x="6372360" y="4797360"/>
          <a:ext cx="2840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4797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Объект 11"/>
          <p:cNvGraphicFramePr/>
          <p:nvPr/>
        </p:nvGraphicFramePr>
        <p:xfrm>
          <a:off x="2556000" y="5229360"/>
          <a:ext cx="272556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229360"/>
                    <a:ext cx="2725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Объект 13"/>
          <p:cNvGraphicFramePr/>
          <p:nvPr/>
        </p:nvGraphicFramePr>
        <p:xfrm>
          <a:off x="896760" y="5616720"/>
          <a:ext cx="93852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96760" y="5616720"/>
                    <a:ext cx="9385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72040" y="2428920"/>
                <a:ext cx="1014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7786800" y="2786040"/>
                <a:ext cx="118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786800" y="1600200"/>
                <a:ext cx="1136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191440" y="1959120"/>
                <a:ext cx="8812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5000" y="928800"/>
                <a:ext cx="8841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6143760" y="2071800"/>
                <a:ext cx="287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572160" y="2928960"/>
                <a:ext cx="351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7358040" y="2286000"/>
                <a:ext cx="335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929280" y="1608120"/>
                <a:ext cx="219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47" name="Объект 11"/>
          <p:cNvGraphicFramePr/>
          <p:nvPr/>
        </p:nvGraphicFramePr>
        <p:xfrm>
          <a:off x="3143160" y="3786120"/>
          <a:ext cx="27259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Объект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786120"/>
                    <a:ext cx="2725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Объект 4"/>
          <p:cNvGraphicFramePr/>
          <p:nvPr/>
        </p:nvGraphicFramePr>
        <p:xfrm>
          <a:off x="3571920" y="4714920"/>
          <a:ext cx="2101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4714920"/>
                    <a:ext cx="2101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55480" y="271440"/>
            <a:ext cx="82807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      также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рны  равен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3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У равных векторов равны соответствующие координ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оллинеарных векторов координаты пропорциональны: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Объект 3"/>
          <p:cNvGraphicFramePr/>
          <p:nvPr/>
        </p:nvGraphicFramePr>
        <p:xfrm>
          <a:off x="1835280" y="260280"/>
          <a:ext cx="2556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028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4"/>
          <p:cNvGraphicFramePr/>
          <p:nvPr/>
        </p:nvGraphicFramePr>
        <p:xfrm>
          <a:off x="5665680" y="127080"/>
          <a:ext cx="2102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127080"/>
                    <a:ext cx="2102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AutoShape 39"/>
          <p:cNvSpPr/>
          <p:nvPr/>
        </p:nvSpPr>
        <p:spPr>
          <a:xfrm>
            <a:off x="4606920" y="-601560"/>
            <a:ext cx="94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0"/>
          <p:cNvSpPr/>
          <p:nvPr/>
        </p:nvSpPr>
        <p:spPr>
          <a:xfrm>
            <a:off x="336600" y="-326880"/>
            <a:ext cx="685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1"/>
          <p:cNvSpPr/>
          <p:nvPr/>
        </p:nvSpPr>
        <p:spPr>
          <a:xfrm>
            <a:off x="555480" y="-326880"/>
            <a:ext cx="695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2"/>
          <p:cNvSpPr/>
          <p:nvPr/>
        </p:nvSpPr>
        <p:spPr>
          <a:xfrm>
            <a:off x="743040" y="-326880"/>
            <a:ext cx="676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3008160" y="3151080"/>
            <a:ext cx="210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Объект 12"/>
          <p:cNvGraphicFramePr/>
          <p:nvPr/>
        </p:nvGraphicFramePr>
        <p:xfrm>
          <a:off x="1006560" y="1123920"/>
          <a:ext cx="2668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6560" y="1123920"/>
                    <a:ext cx="2668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13"/>
          <p:cNvGraphicFramePr/>
          <p:nvPr/>
        </p:nvGraphicFramePr>
        <p:xfrm>
          <a:off x="1763640" y="1655640"/>
          <a:ext cx="4834080" cy="16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1655640"/>
                    <a:ext cx="48340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14"/>
          <p:cNvGraphicFramePr/>
          <p:nvPr/>
        </p:nvGraphicFramePr>
        <p:xfrm>
          <a:off x="2673360" y="4076640"/>
          <a:ext cx="397656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3360" y="4076640"/>
                    <a:ext cx="3976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15"/>
          <p:cNvGraphicFramePr/>
          <p:nvPr/>
        </p:nvGraphicFramePr>
        <p:xfrm>
          <a:off x="2828880" y="5303880"/>
          <a:ext cx="32860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5303880"/>
                    <a:ext cx="3286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вектора                          через координат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известны координаты точек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Объект 4"/>
          <p:cNvGraphicFramePr/>
          <p:nvPr/>
        </p:nvGraphicFramePr>
        <p:xfrm>
          <a:off x="5462640" y="115920"/>
          <a:ext cx="20462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15920"/>
                    <a:ext cx="2046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Объект 6"/>
          <p:cNvGraphicFramePr/>
          <p:nvPr/>
        </p:nvGraphicFramePr>
        <p:xfrm>
          <a:off x="2646360" y="1285920"/>
          <a:ext cx="258588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1285920"/>
                    <a:ext cx="2585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Объект 7"/>
          <p:cNvGraphicFramePr/>
          <p:nvPr/>
        </p:nvGraphicFramePr>
        <p:xfrm>
          <a:off x="5535720" y="2216160"/>
          <a:ext cx="21384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35720" y="2216160"/>
                    <a:ext cx="213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8"/>
          <p:cNvGraphicFramePr/>
          <p:nvPr/>
        </p:nvGraphicFramePr>
        <p:xfrm>
          <a:off x="504720" y="2792520"/>
          <a:ext cx="217332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2792520"/>
                    <a:ext cx="21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9"/>
          <p:cNvGraphicFramePr/>
          <p:nvPr/>
        </p:nvGraphicFramePr>
        <p:xfrm>
          <a:off x="3203640" y="2878200"/>
          <a:ext cx="5797440" cy="69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878200"/>
                    <a:ext cx="579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10"/>
          <p:cNvGraphicFramePr/>
          <p:nvPr/>
        </p:nvGraphicFramePr>
        <p:xfrm>
          <a:off x="1778040" y="3986280"/>
          <a:ext cx="562608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78040" y="3986280"/>
                    <a:ext cx="562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ЕРАЦИИ НАД ВЕК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ожение:   Координаты суммы двух векторов равны сумме соответствующих координат слагаемых векторов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 Вычит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5"/>
          <p:cNvCxnSpPr/>
          <p:nvPr/>
        </p:nvCxnSpPr>
        <p:spPr>
          <a:xfrm flipV="1">
            <a:off x="1763280" y="1988640"/>
            <a:ext cx="1513800" cy="936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93" name="Прямая со стрелкой 6"/>
          <p:cNvCxnSpPr/>
          <p:nvPr/>
        </p:nvCxnSpPr>
        <p:spPr>
          <a:xfrm>
            <a:off x="1763280" y="2924280"/>
            <a:ext cx="1360800" cy="568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94" name="Прямая соединительная линия 9"/>
          <p:cNvSpPr/>
          <p:nvPr/>
        </p:nvSpPr>
        <p:spPr>
          <a:xfrm>
            <a:off x="3276720" y="1989000"/>
            <a:ext cx="1366560" cy="46836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1"/>
          <p:cNvSpPr/>
          <p:nvPr/>
        </p:nvSpPr>
        <p:spPr>
          <a:xfrm flipV="1">
            <a:off x="3124080" y="2457000"/>
            <a:ext cx="1519200" cy="1035000"/>
          </a:xfrm>
          <a:prstGeom prst="line">
            <a:avLst/>
          </a:prstGeom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/>
          <p:nvPr/>
        </p:nvCxnSpPr>
        <p:spPr>
          <a:xfrm flipV="1">
            <a:off x="1915920" y="2456640"/>
            <a:ext cx="2727720" cy="467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aphicFrame>
        <p:nvGraphicFramePr>
          <p:cNvPr id="297" name="Объект 15"/>
          <p:cNvGraphicFramePr/>
          <p:nvPr/>
        </p:nvGraphicFramePr>
        <p:xfrm>
          <a:off x="2050920" y="1971720"/>
          <a:ext cx="2844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7172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Объект 16"/>
          <p:cNvGraphicFramePr/>
          <p:nvPr/>
        </p:nvGraphicFramePr>
        <p:xfrm>
          <a:off x="2286000" y="3208320"/>
          <a:ext cx="316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Объект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8320"/>
                    <a:ext cx="316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Объект 1"/>
          <p:cNvGraphicFramePr/>
          <p:nvPr/>
        </p:nvGraphicFramePr>
        <p:xfrm>
          <a:off x="3411360" y="1982880"/>
          <a:ext cx="79560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Объект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1360" y="1982880"/>
                    <a:ext cx="7956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3" name="Прямая со стрелкой 13"/>
          <p:cNvCxnSpPr/>
          <p:nvPr/>
        </p:nvCxnSpPr>
        <p:spPr>
          <a:xfrm flipV="1">
            <a:off x="3203640" y="4075920"/>
            <a:ext cx="1513440" cy="935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Прямая со стрелкой 14"/>
          <p:cNvCxnSpPr/>
          <p:nvPr/>
        </p:nvCxnSpPr>
        <p:spPr>
          <a:xfrm>
            <a:off x="3203640" y="5022720"/>
            <a:ext cx="1800720" cy="27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5" name="Прямая со стрелкой 15"/>
          <p:cNvCxnSpPr/>
          <p:nvPr/>
        </p:nvCxnSpPr>
        <p:spPr>
          <a:xfrm flipH="1" flipV="1">
            <a:off x="4714560" y="4071240"/>
            <a:ext cx="286560" cy="1215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aphicFrame>
        <p:nvGraphicFramePr>
          <p:cNvPr id="306" name="Объект 4"/>
          <p:cNvGraphicFramePr/>
          <p:nvPr/>
        </p:nvGraphicFramePr>
        <p:xfrm>
          <a:off x="3726000" y="3933720"/>
          <a:ext cx="3157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6000" y="3933720"/>
                    <a:ext cx="31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Объект 7"/>
          <p:cNvGraphicFramePr/>
          <p:nvPr/>
        </p:nvGraphicFramePr>
        <p:xfrm>
          <a:off x="3492360" y="5151600"/>
          <a:ext cx="284400" cy="47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515160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Объект 8"/>
          <p:cNvGraphicFramePr/>
          <p:nvPr/>
        </p:nvGraphicFramePr>
        <p:xfrm>
          <a:off x="4970520" y="4222800"/>
          <a:ext cx="766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70520" y="4222800"/>
                    <a:ext cx="76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18"/>
              <p:cNvSpPr txBox="1"/>
              <p:nvPr/>
            </p:nvSpPr>
            <p:spPr>
              <a:xfrm>
                <a:off x="4643280" y="2643120"/>
                <a:ext cx="3900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0"/>
              <p:cNvSpPr txBox="1"/>
              <p:nvPr/>
            </p:nvSpPr>
            <p:spPr>
              <a:xfrm>
                <a:off x="4714920" y="5643720"/>
                <a:ext cx="3900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) Умножение вектора на ск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) Скалярное произведение дву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 п р е д е л е н и е.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калярным произведением двух векторов                         называется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обознача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вычисляемое по формуле               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где            угол между векторами   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Если известны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4"/>
          <p:cNvGraphicFramePr/>
          <p:nvPr/>
        </p:nvGraphicFramePr>
        <p:xfrm>
          <a:off x="5364000" y="189000"/>
          <a:ext cx="3160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9000"/>
                    <a:ext cx="316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2266920" y="907920"/>
          <a:ext cx="29005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907920"/>
                    <a:ext cx="2900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2124000" y="2637000"/>
          <a:ext cx="1378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378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8"/>
          <p:cNvGraphicFramePr/>
          <p:nvPr/>
        </p:nvGraphicFramePr>
        <p:xfrm>
          <a:off x="539640" y="3141720"/>
          <a:ext cx="11368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141720"/>
                    <a:ext cx="1136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9"/>
          <p:cNvGraphicFramePr/>
          <p:nvPr/>
        </p:nvGraphicFramePr>
        <p:xfrm>
          <a:off x="5724360" y="3141720"/>
          <a:ext cx="277812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3141720"/>
                    <a:ext cx="27781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10"/>
          <p:cNvGraphicFramePr/>
          <p:nvPr/>
        </p:nvGraphicFramePr>
        <p:xfrm>
          <a:off x="1258920" y="3933720"/>
          <a:ext cx="5540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3933720"/>
                    <a:ext cx="554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1"/>
          <p:cNvGraphicFramePr/>
          <p:nvPr/>
        </p:nvGraphicFramePr>
        <p:xfrm>
          <a:off x="5435640" y="3789360"/>
          <a:ext cx="137808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35640" y="3789360"/>
                    <a:ext cx="137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2"/>
          <p:cNvGraphicFramePr/>
          <p:nvPr/>
        </p:nvGraphicFramePr>
        <p:xfrm>
          <a:off x="684360" y="4724280"/>
          <a:ext cx="4748040" cy="60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4360" y="4724280"/>
                    <a:ext cx="47480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3"/>
          <p:cNvGraphicFramePr/>
          <p:nvPr/>
        </p:nvGraphicFramePr>
        <p:xfrm>
          <a:off x="755640" y="5300640"/>
          <a:ext cx="444348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5640" y="5300640"/>
                    <a:ext cx="4443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йства скалярного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4"/>
          <p:cNvGraphicFramePr/>
          <p:nvPr/>
        </p:nvGraphicFramePr>
        <p:xfrm>
          <a:off x="1332000" y="1197000"/>
          <a:ext cx="20494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20494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Объект 5"/>
          <p:cNvGraphicFramePr/>
          <p:nvPr/>
        </p:nvGraphicFramePr>
        <p:xfrm>
          <a:off x="1474920" y="2276640"/>
          <a:ext cx="3566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2276640"/>
                    <a:ext cx="3566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Объект 6"/>
          <p:cNvGraphicFramePr/>
          <p:nvPr/>
        </p:nvGraphicFramePr>
        <p:xfrm>
          <a:off x="1474920" y="3429000"/>
          <a:ext cx="345276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3429000"/>
                    <a:ext cx="3452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Объект 7"/>
          <p:cNvGraphicFramePr/>
          <p:nvPr/>
        </p:nvGraphicFramePr>
        <p:xfrm>
          <a:off x="1619280" y="4292640"/>
          <a:ext cx="194472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292640"/>
                    <a:ext cx="1944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Объект 8"/>
          <p:cNvGraphicFramePr/>
          <p:nvPr/>
        </p:nvGraphicFramePr>
        <p:xfrm>
          <a:off x="1692360" y="5516640"/>
          <a:ext cx="1730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516640"/>
                    <a:ext cx="1730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Box 8"/>
          <p:cNvSpPr/>
          <p:nvPr/>
        </p:nvSpPr>
        <p:spPr>
          <a:xfrm>
            <a:off x="4929120" y="4714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между двумя ве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4357800" y="4813200"/>
                <a:ext cx="5079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653760" y="157176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8"/>
          <p:cNvSpPr/>
          <p:nvPr/>
        </p:nvSpPr>
        <p:spPr>
          <a:xfrm>
            <a:off x="719640" y="2500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т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1928880" y="3214800"/>
                <a:ext cx="6124680" cy="28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  <m:r>
                              <m:t xml:space="preserve">;</m:t>
                            </m:r>
                          </m:e>
                        </m:acc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сторам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920" y="107172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опреде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длины векторов        и        .    По формуле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й квадрат равен квадрату модуля вектора, т.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357280" y="1643040"/>
                <a:ext cx="4908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429080" y="2357280"/>
                <a:ext cx="335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7" name="Объект 6"/>
          <p:cNvGraphicFramePr/>
          <p:nvPr/>
        </p:nvGraphicFramePr>
        <p:xfrm>
          <a:off x="1000080" y="3000240"/>
          <a:ext cx="25862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000240"/>
                    <a:ext cx="25862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214280" y="3929040"/>
                <a:ext cx="6878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5286240" y="2357280"/>
                <a:ext cx="360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836880" y="5643720"/>
                <a:ext cx="2092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гол между векторами                      определяется равенст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куд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071800" y="857160"/>
                <a:ext cx="47401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4500720" y="2000160"/>
                <a:ext cx="1101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071880"/>
                <a:ext cx="3730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2933640" y="4776840"/>
                <a:ext cx="3006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95280" y="825480"/>
            <a:ext cx="8353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Весь этот мир держится исключительно  на математике,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 сказал Роб Кук, ушедший на пенсию вице-президент 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Pixar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и автор многих важных программ, используемых при создании трехмерной графики.- Что бы вы в нем ни делали, все описывается математическими действиями. И если все сделано правильно, то никто об этом не догадывается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50920" y="404640"/>
            <a:ext cx="87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создания трехмерной анимации требуется не только разбираться в программном обеспечении, но и быть знатоком физики с математикой. Только обладая совокупностью этих  познаний, можно соз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алистический виртуальны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ставьте себе локоть. Когда он гнется, рука, предплечье, запястье двигаются ,  а мышцы сжимаются и разжимаются – и все это можно описать при помощи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работе над трехмерной анимацией или графикой компьютерной игры тригонометрия помогает з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ращение и движение, алгебра используется  при создании спецэффектов, а интегральное исчисление помогает создать реалистичное осв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ив Джо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331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екторы. Операции над век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калярное произведение дву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войства скаляр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истема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пределени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ямая, служащая для изображения действительных чисел, в которой выбрана начальная точ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, единица измерения и положительное направление,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исловой прямой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числовой осью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чка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М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й прямой характеризуется определенным числом –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ординатой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Объект 3"/>
          <p:cNvGraphicFramePr/>
          <p:nvPr/>
        </p:nvGraphicFramePr>
        <p:xfrm>
          <a:off x="3044880" y="4491000"/>
          <a:ext cx="2840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449100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Объект 4"/>
          <p:cNvGraphicFramePr/>
          <p:nvPr/>
        </p:nvGraphicFramePr>
        <p:xfrm>
          <a:off x="3995640" y="4424400"/>
          <a:ext cx="9367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424400"/>
                    <a:ext cx="93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Прямая со стрелкой 6"/>
          <p:cNvCxnSpPr/>
          <p:nvPr/>
        </p:nvCxnSpPr>
        <p:spPr>
          <a:xfrm>
            <a:off x="1474560" y="5949720"/>
            <a:ext cx="5545800" cy="1080"/>
          </a:xfrm>
          <a:prstGeom prst="straightConnector1">
            <a:avLst/>
          </a:prstGeom>
          <a:ln w="9360">
            <a:solidFill>
              <a:srgbClr val="222268"/>
            </a:solidFill>
            <a:miter/>
            <a:tailEnd len="med" type="triangle" w="med"/>
          </a:ln>
        </p:spPr>
      </p:cxnSp>
      <p:graphicFrame>
        <p:nvGraphicFramePr>
          <p:cNvPr id="101" name="Объект 7"/>
          <p:cNvGraphicFramePr/>
          <p:nvPr/>
        </p:nvGraphicFramePr>
        <p:xfrm>
          <a:off x="2411280" y="5300640"/>
          <a:ext cx="21002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2100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Объект 8"/>
          <p:cNvGraphicFramePr/>
          <p:nvPr/>
        </p:nvGraphicFramePr>
        <p:xfrm>
          <a:off x="3276720" y="5084640"/>
          <a:ext cx="28404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08464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9"/>
          <p:cNvGraphicFramePr/>
          <p:nvPr/>
        </p:nvGraphicFramePr>
        <p:xfrm>
          <a:off x="6735600" y="5516640"/>
          <a:ext cx="28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5600" y="5516640"/>
                    <a:ext cx="28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11"/>
          <p:cNvGraphicFramePr/>
          <p:nvPr/>
        </p:nvGraphicFramePr>
        <p:xfrm>
          <a:off x="2411280" y="5810400"/>
          <a:ext cx="2556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5810400"/>
                    <a:ext cx="255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Объект 12"/>
          <p:cNvGraphicFramePr/>
          <p:nvPr/>
        </p:nvGraphicFramePr>
        <p:xfrm>
          <a:off x="4260960" y="5808600"/>
          <a:ext cx="25704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Объект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0960" y="5808600"/>
                    <a:ext cx="257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-3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е взаимно перпендикулярные оси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на плоскости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сь 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абсцисс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ось         -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ордина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точка     -началом координат и плоскость             - координатной плоскостью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3"/>
          <p:cNvGraphicFramePr/>
          <p:nvPr/>
        </p:nvGraphicFramePr>
        <p:xfrm>
          <a:off x="4486320" y="452520"/>
          <a:ext cx="1728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452520"/>
                    <a:ext cx="1728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Объект 4"/>
          <p:cNvGraphicFramePr/>
          <p:nvPr/>
        </p:nvGraphicFramePr>
        <p:xfrm>
          <a:off x="3059280" y="857160"/>
          <a:ext cx="34596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85716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5"/>
          <p:cNvGraphicFramePr/>
          <p:nvPr/>
        </p:nvGraphicFramePr>
        <p:xfrm>
          <a:off x="1619280" y="2011320"/>
          <a:ext cx="5191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011320"/>
                    <a:ext cx="519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6"/>
          <p:cNvGraphicFramePr/>
          <p:nvPr/>
        </p:nvGraphicFramePr>
        <p:xfrm>
          <a:off x="7669080" y="2000160"/>
          <a:ext cx="519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9080" y="2000160"/>
                    <a:ext cx="519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8"/>
          <p:cNvGraphicFramePr/>
          <p:nvPr/>
        </p:nvGraphicFramePr>
        <p:xfrm>
          <a:off x="2484360" y="2786040"/>
          <a:ext cx="66348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2786040"/>
                    <a:ext cx="66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2" name="Прямая со стрелкой 10"/>
          <p:cNvCxnSpPr/>
          <p:nvPr/>
        </p:nvCxnSpPr>
        <p:spPr>
          <a:xfrm flipH="1" flipV="1">
            <a:off x="6803280" y="3284640"/>
            <a:ext cx="37080" cy="24498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23" name="Прямая со стрелкой 14"/>
          <p:cNvCxnSpPr/>
          <p:nvPr/>
        </p:nvCxnSpPr>
        <p:spPr>
          <a:xfrm>
            <a:off x="6227280" y="5265360"/>
            <a:ext cx="25218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4" name="Объект 16"/>
          <p:cNvGraphicFramePr/>
          <p:nvPr/>
        </p:nvGraphicFramePr>
        <p:xfrm>
          <a:off x="6458040" y="5219640"/>
          <a:ext cx="345960" cy="4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58040" y="521964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7"/>
          <p:cNvGraphicFramePr/>
          <p:nvPr/>
        </p:nvGraphicFramePr>
        <p:xfrm>
          <a:off x="8440560" y="5265720"/>
          <a:ext cx="308160" cy="33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40560" y="52657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18"/>
          <p:cNvGraphicFramePr/>
          <p:nvPr/>
        </p:nvGraphicFramePr>
        <p:xfrm>
          <a:off x="6539040" y="3141720"/>
          <a:ext cx="338040" cy="39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39040" y="3141720"/>
                    <a:ext cx="338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Объект 19"/>
          <p:cNvGraphicFramePr/>
          <p:nvPr/>
        </p:nvGraphicFramePr>
        <p:xfrm>
          <a:off x="6300720" y="3641760"/>
          <a:ext cx="914400" cy="16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Объект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3641760"/>
                    <a:ext cx="9144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Объект 20"/>
          <p:cNvGraphicFramePr/>
          <p:nvPr/>
        </p:nvGraphicFramePr>
        <p:xfrm>
          <a:off x="6732720" y="4767120"/>
          <a:ext cx="1439640" cy="92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Объект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32720" y="4767120"/>
                    <a:ext cx="14396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25"/>
          <p:cNvSpPr/>
          <p:nvPr/>
        </p:nvSpPr>
        <p:spPr>
          <a:xfrm>
            <a:off x="539640" y="3357720"/>
            <a:ext cx="578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ой точке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лоскости соответствует пар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                называется абсциссой,     - называется ордин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Объект 27"/>
          <p:cNvGraphicFramePr/>
          <p:nvPr/>
        </p:nvGraphicFramePr>
        <p:xfrm>
          <a:off x="596880" y="4076640"/>
          <a:ext cx="784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Объект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6880" y="4076640"/>
                    <a:ext cx="784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Объект 28"/>
          <p:cNvGraphicFramePr/>
          <p:nvPr/>
        </p:nvGraphicFramePr>
        <p:xfrm>
          <a:off x="1236600" y="4508640"/>
          <a:ext cx="1152720" cy="43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8" name="Объект 2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36600" y="4508640"/>
                    <a:ext cx="11527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9"/>
          <p:cNvGraphicFramePr/>
          <p:nvPr/>
        </p:nvGraphicFramePr>
        <p:xfrm>
          <a:off x="8055000" y="3284640"/>
          <a:ext cx="1054080" cy="53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0" name="Объект 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284640"/>
                    <a:ext cx="1054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30"/>
          <p:cNvGraphicFramePr/>
          <p:nvPr/>
        </p:nvGraphicFramePr>
        <p:xfrm>
          <a:off x="4643280" y="2428920"/>
          <a:ext cx="346320" cy="41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2" name="Объект 3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242892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31"/>
          <p:cNvGraphicFramePr/>
          <p:nvPr/>
        </p:nvGraphicFramePr>
        <p:xfrm>
          <a:off x="2411280" y="4581360"/>
          <a:ext cx="584280" cy="338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4" name="Объект 3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581360"/>
                    <a:ext cx="58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3"/>
          <p:cNvGraphicFramePr/>
          <p:nvPr/>
        </p:nvGraphicFramePr>
        <p:xfrm>
          <a:off x="2340000" y="4883040"/>
          <a:ext cx="282600" cy="363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6" name="Объект 3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40000" y="488304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Прямая соединительная линия 37"/>
          <p:cNvSpPr/>
          <p:nvPr/>
        </p:nvSpPr>
        <p:spPr>
          <a:xfrm>
            <a:off x="6840360" y="3716280"/>
            <a:ext cx="1260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9"/>
          <p:cNvSpPr/>
          <p:nvPr/>
        </p:nvSpPr>
        <p:spPr>
          <a:xfrm>
            <a:off x="8101080" y="3716280"/>
            <a:ext cx="0" cy="1549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5280" y="1886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ри взаимно перпендикулярные оси  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в пространстве                  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сь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зывается осью апплик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ая точка                    характеризуется трой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исел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называется абсциссой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азывается ординат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пплик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Объект 3"/>
          <p:cNvGraphicFramePr/>
          <p:nvPr/>
        </p:nvGraphicFramePr>
        <p:xfrm>
          <a:off x="4429080" y="692280"/>
          <a:ext cx="25351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692280"/>
                    <a:ext cx="253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Объект 4"/>
          <p:cNvGraphicFramePr/>
          <p:nvPr/>
        </p:nvGraphicFramePr>
        <p:xfrm>
          <a:off x="3132000" y="1052640"/>
          <a:ext cx="3463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05264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5"/>
          <p:cNvGraphicFramePr/>
          <p:nvPr/>
        </p:nvGraphicFramePr>
        <p:xfrm>
          <a:off x="1692360" y="2205000"/>
          <a:ext cx="4903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05000"/>
                    <a:ext cx="490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6" name="Прямая со стрелкой 10"/>
          <p:cNvCxnSpPr/>
          <p:nvPr/>
        </p:nvCxnSpPr>
        <p:spPr>
          <a:xfrm flipV="1">
            <a:off x="6156000" y="3428640"/>
            <a:ext cx="1080" cy="15134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57" name="Прямая со стрелкой 14"/>
          <p:cNvCxnSpPr/>
          <p:nvPr/>
        </p:nvCxnSpPr>
        <p:spPr>
          <a:xfrm>
            <a:off x="6156360" y="4941360"/>
            <a:ext cx="23580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58" name="Объект 16"/>
          <p:cNvGraphicFramePr/>
          <p:nvPr/>
        </p:nvGraphicFramePr>
        <p:xfrm>
          <a:off x="6156360" y="4902120"/>
          <a:ext cx="345960" cy="4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90212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Объект 17"/>
          <p:cNvGraphicFramePr/>
          <p:nvPr/>
        </p:nvGraphicFramePr>
        <p:xfrm>
          <a:off x="8728200" y="5396040"/>
          <a:ext cx="30780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28200" y="5396040"/>
                    <a:ext cx="307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Объект 18"/>
          <p:cNvGraphicFramePr/>
          <p:nvPr/>
        </p:nvGraphicFramePr>
        <p:xfrm>
          <a:off x="5884920" y="3422520"/>
          <a:ext cx="338040" cy="4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4920" y="3422520"/>
                    <a:ext cx="3380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Объект 19"/>
          <p:cNvGraphicFramePr/>
          <p:nvPr/>
        </p:nvGraphicFramePr>
        <p:xfrm>
          <a:off x="5643720" y="3571920"/>
          <a:ext cx="639720" cy="14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43720" y="3571920"/>
                    <a:ext cx="6397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Объект 1"/>
          <p:cNvGraphicFramePr/>
          <p:nvPr/>
        </p:nvGraphicFramePr>
        <p:xfrm>
          <a:off x="7016760" y="1773360"/>
          <a:ext cx="8082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Объект 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6760" y="1773360"/>
                    <a:ext cx="808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Объект 11"/>
          <p:cNvGraphicFramePr/>
          <p:nvPr/>
        </p:nvGraphicFramePr>
        <p:xfrm>
          <a:off x="2782800" y="2592360"/>
          <a:ext cx="150192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82800" y="2592360"/>
                    <a:ext cx="150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Объект 12"/>
          <p:cNvGraphicFramePr/>
          <p:nvPr/>
        </p:nvGraphicFramePr>
        <p:xfrm>
          <a:off x="1474920" y="3573360"/>
          <a:ext cx="583920" cy="33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Объект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4920" y="3573360"/>
                    <a:ext cx="5839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Объект 13"/>
          <p:cNvGraphicFramePr/>
          <p:nvPr/>
        </p:nvGraphicFramePr>
        <p:xfrm>
          <a:off x="971640" y="4002120"/>
          <a:ext cx="282600" cy="36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Объект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1640" y="400212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Объект 15"/>
          <p:cNvGraphicFramePr/>
          <p:nvPr/>
        </p:nvGraphicFramePr>
        <p:xfrm>
          <a:off x="900000" y="4459320"/>
          <a:ext cx="595440" cy="36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Объект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00000" y="4459320"/>
                    <a:ext cx="59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6" name="Прямая со стрелкой 25"/>
          <p:cNvCxnSpPr/>
          <p:nvPr/>
        </p:nvCxnSpPr>
        <p:spPr>
          <a:xfrm flipH="1">
            <a:off x="5471640" y="4902120"/>
            <a:ext cx="721440" cy="1116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7" name="Левая фигурная скобка 34"/>
          <p:cNvSpPr/>
          <p:nvPr/>
        </p:nvSpPr>
        <p:spPr>
          <a:xfrm rot="1917000">
            <a:off x="5601960" y="4782960"/>
            <a:ext cx="284040" cy="1103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1103400"/>
              <a:gd name="textAreaBottom" fmla="*/ 1096200 h 110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Объект 35"/>
          <p:cNvGraphicFramePr/>
          <p:nvPr/>
        </p:nvGraphicFramePr>
        <p:xfrm>
          <a:off x="5491080" y="4929120"/>
          <a:ext cx="308160" cy="33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Объект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91080" y="49291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Прямая соединительная линия 37"/>
          <p:cNvSpPr/>
          <p:nvPr/>
        </p:nvSpPr>
        <p:spPr>
          <a:xfrm>
            <a:off x="6192720" y="3701880"/>
            <a:ext cx="82728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27"/>
          <a:stretch/>
        </p:blipFill>
        <p:spPr>
          <a:xfrm>
            <a:off x="6910560" y="3689280"/>
            <a:ext cx="218880" cy="126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82" name="Picture 32" descr=""/>
          <p:cNvPicPr/>
          <p:nvPr/>
        </p:nvPicPr>
        <p:blipFill>
          <a:blip r:embed="rId28"/>
          <a:stretch/>
        </p:blipFill>
        <p:spPr>
          <a:xfrm>
            <a:off x="7450200" y="3500280"/>
            <a:ext cx="218880" cy="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Объект 46"/>
          <p:cNvGraphicFramePr/>
          <p:nvPr/>
        </p:nvGraphicFramePr>
        <p:xfrm>
          <a:off x="6966000" y="3117960"/>
          <a:ext cx="1404720" cy="79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4" name="Объект 4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66000" y="3117960"/>
                    <a:ext cx="140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ая соединительная линия 48"/>
          <p:cNvSpPr/>
          <p:nvPr/>
        </p:nvSpPr>
        <p:spPr>
          <a:xfrm flipV="1">
            <a:off x="5616720" y="5872320"/>
            <a:ext cx="1566720" cy="10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52"/>
          <p:cNvSpPr/>
          <p:nvPr/>
        </p:nvSpPr>
        <p:spPr>
          <a:xfrm flipV="1">
            <a:off x="7129440" y="4941360"/>
            <a:ext cx="611280" cy="9306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57"/>
          <p:cNvSpPr/>
          <p:nvPr/>
        </p:nvSpPr>
        <p:spPr>
          <a:xfrm>
            <a:off x="7093080" y="3689280"/>
            <a:ext cx="33120" cy="21830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Объект 47138"/>
          <p:cNvGraphicFramePr/>
          <p:nvPr/>
        </p:nvGraphicFramePr>
        <p:xfrm>
          <a:off x="6084720" y="4437000"/>
          <a:ext cx="1787760" cy="935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Объект 471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84720" y="4437000"/>
                    <a:ext cx="17877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 П Р Е Д Е Л Е Н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кторо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называется направленный  отрезок с начал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 конц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ой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(или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оду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вектора         называется длина отрезка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Используется обозначение: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а вектора и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они имеют одинаковые длины, лежат на параллельных прямых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ллинеар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и направлены в одну сторону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онаправле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екцией вектора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ь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число, обозначаемое       , вычисляемое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Объект 1"/>
          <p:cNvGraphicFramePr/>
          <p:nvPr/>
        </p:nvGraphicFramePr>
        <p:xfrm>
          <a:off x="3564000" y="549360"/>
          <a:ext cx="511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54936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Объект 2"/>
          <p:cNvGraphicFramePr/>
          <p:nvPr/>
        </p:nvGraphicFramePr>
        <p:xfrm>
          <a:off x="6877080" y="1413000"/>
          <a:ext cx="511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141300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3"/>
          <p:cNvGraphicFramePr/>
          <p:nvPr/>
        </p:nvGraphicFramePr>
        <p:xfrm>
          <a:off x="3132000" y="2133720"/>
          <a:ext cx="6145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133720"/>
                    <a:ext cx="614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4716360" y="4076640"/>
          <a:ext cx="25560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07664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5"/>
          <p:cNvGraphicFramePr/>
          <p:nvPr/>
        </p:nvGraphicFramePr>
        <p:xfrm>
          <a:off x="6300720" y="4149720"/>
          <a:ext cx="4860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149720"/>
                    <a:ext cx="486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Объект 6"/>
          <p:cNvGraphicFramePr/>
          <p:nvPr/>
        </p:nvGraphicFramePr>
        <p:xfrm>
          <a:off x="4807080" y="4437000"/>
          <a:ext cx="7729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7080" y="4437000"/>
                    <a:ext cx="77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7"/>
          <p:cNvGraphicFramePr/>
          <p:nvPr/>
        </p:nvGraphicFramePr>
        <p:xfrm>
          <a:off x="1584360" y="5286240"/>
          <a:ext cx="2844720" cy="75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84360" y="5286240"/>
                    <a:ext cx="28447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2" descr=""/>
          <p:cNvPicPr/>
          <p:nvPr/>
        </p:nvPicPr>
        <p:blipFill>
          <a:blip r:embed="rId15"/>
          <a:stretch/>
        </p:blipFill>
        <p:spPr>
          <a:xfrm>
            <a:off x="4786200" y="5072040"/>
            <a:ext cx="364356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280" y="428580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предел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Если начало и конец вектора совпадают, например             , то такой вектор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левым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и обозначается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нулевого вектора равна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86040" y="5000760"/>
                <a:ext cx="482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071800" y="4643280"/>
                <a:ext cx="892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13" name="Picture 2" descr="C:\Users\HP\Desktop\фото (2)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714240" y="2685960"/>
                <a:ext cx="2173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2" descr="C:\Users\HP\Desktop\фото (3)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6970680" y="2714760"/>
                <a:ext cx="2173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JADU</cp:lastModifiedBy>
  <dcterms:modified xsi:type="dcterms:W3CDTF">2014-09-14T15:55:07Z</dcterms:modified>
  <cp:revision>212</cp:revision>
  <dc:subject/>
  <dc:title>Лекция 1</dc:title>
</cp:coreProperties>
</file>